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ft off h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386-0F47-4092-B2BE-24DB4118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5C69-4E06-4CC1-8577-E43E4A46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E070-76CF-4880-89EA-9D9DAAEE6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055B-D31C-4A64-8EEB-B8779810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4F25-5A21-4982-B2A2-024C2742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D31F9-C92F-4732-834F-6CBD04A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3BEF-5FE3-4967-9C4B-A2C25B3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1C00-8962-4D7A-A9AB-398FE6FC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7D02-D2BC-46AF-849D-62860AA0F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DCAB-A752-45F2-8A7D-2F758D8D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E68F-E762-4BC6-9918-1A7B2419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AD4D-061F-4B64-A498-42CAA8E5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F73D-C5D5-4130-B173-26E8CAB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96AC-4CD7-4A85-9DCA-8285F16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DDA7-482A-43D6-8CF4-43703F0E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8842-AA0D-4C41-A860-3C8E2776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10A4-AB43-4CAD-A7DA-0A6A4C3C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EFC-BFD0-4048-B5E9-F59E831BE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0EA-0F33-4775-8D3D-C1C94051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0DB-1027-48BD-9A37-C410C35B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B27-65F6-4AC3-9402-D188F911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ECBF-3826-41FF-B6A2-732556FC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15B-2DEC-4897-9894-C56A6764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ED3-F0E3-4D26-9A60-31060FE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Group 3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312840" y="431640"/>
                <a:ext cx="950760" cy="129384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787320" y="276120"/>
                  <a:ext cx="58572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03040" y="276120"/>
                  <a:ext cx="586080" cy="80172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Group 8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Freeform 9"/>
                <p:cNvSpPr/>
                <p:nvPr/>
              </p:nvSpPr>
              <p:spPr>
                <a:xfrm>
                  <a:off x="787320" y="1076400"/>
                  <a:ext cx="58572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Freeform 10"/>
                <p:cNvSpPr/>
                <p:nvPr/>
              </p:nvSpPr>
              <p:spPr>
                <a:xfrm>
                  <a:off x="203040" y="1076400"/>
                  <a:ext cx="586080" cy="80172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Group 11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Freeform 12"/>
              <p:cNvSpPr/>
              <p:nvPr/>
            </p:nvSpPr>
            <p:spPr>
              <a:xfrm>
                <a:off x="630360" y="33480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44480" y="43812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33400" y="45252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993600" y="64764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B1A7-CAA1-423C-A57F-DE357E45D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Group 3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Freeform 4"/>
              <p:cNvSpPr/>
              <p:nvPr/>
            </p:nvSpPr>
            <p:spPr>
              <a:xfrm>
                <a:off x="287280" y="2498760"/>
                <a:ext cx="1177920" cy="17622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Group 5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Freeform 6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Freeform 7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prstGeom prst="pie">
                  <a:avLst/>
                </a:pr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Group 8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Freeform 9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10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prstGeom prst="pie">
                  <a:avLst/>
                </a:pr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Group 11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Freeform 12"/>
              <p:cNvSpPr/>
              <p:nvPr/>
            </p:nvSpPr>
            <p:spPr>
              <a:xfrm>
                <a:off x="782640" y="2468520"/>
                <a:ext cx="833400" cy="76212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3"/>
              <p:cNvSpPr/>
              <p:nvPr/>
            </p:nvSpPr>
            <p:spPr>
              <a:xfrm>
                <a:off x="896760" y="2571840"/>
                <a:ext cx="606600" cy="5554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4"/>
              <p:cNvSpPr/>
              <p:nvPr/>
            </p:nvSpPr>
            <p:spPr>
              <a:xfrm>
                <a:off x="985680" y="2585880"/>
                <a:ext cx="428760" cy="5270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15"/>
              <p:cNvSpPr/>
              <p:nvPr/>
            </p:nvSpPr>
            <p:spPr>
              <a:xfrm>
                <a:off x="1146240" y="2781360"/>
                <a:ext cx="108000" cy="13500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61C8-75BF-41E2-AB81-DED3FF7CB0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hapter 31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o a New Conservatism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1969–1988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he Watergate Scandal: Consequence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ed weaknesses and strengths of American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se of Presidential authority to keep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ustrated vitality of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judici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DIVI7233683"/>
          <p:cNvPicPr/>
          <p:nvPr/>
        </p:nvPicPr>
        <p:blipFill>
          <a:blip r:embed="rId1"/>
          <a:stretch/>
        </p:blipFill>
        <p:spPr>
          <a:xfrm>
            <a:off x="1905120" y="304920"/>
            <a:ext cx="5268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conomy of Stagfl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in the Mideast threatened U.S. supply of cheap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 crisis and inflation were the 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ar and Oi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, 1973: Yom Kippur War— Egypt and Syria attacked Israel, but Israel w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C cut oil production 5% per month until Israel gave up occupied lan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gave Israel emergency aid pac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ab oil nations retaliated with boyco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persuaded Israel to pull back from some territory, embargo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ar and Oi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C raised prices after embargo e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s of gasoline and home heating fuel rose shar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realized vulnerability of increasing dependence on foreign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ra for Americans: expansion and abundance met the reality of limited resources and economic stagn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he Oil Shocks:  Price Increases of Crude Oil and Gasoline, 1973–1985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6" name="Picture 6" descr="DIVI669"/>
          <p:cNvPicPr/>
          <p:nvPr/>
        </p:nvPicPr>
        <p:blipFill>
          <a:blip r:embed="rId1"/>
          <a:stretch/>
        </p:blipFill>
        <p:spPr>
          <a:xfrm>
            <a:off x="457200" y="2286000"/>
            <a:ext cx="8153280" cy="38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Great Infl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economy rested on cheap 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C action caused price to quadruple in 1973–19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tion driven by oil prices, Federal budget deficits, global food shor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s rose, real incomes fell, economy worst since the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budget deficits and Fed policy result in record-high interest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51055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ouble Spots in the Middle Eas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2" name="Picture 4" descr="DIVI"/>
          <p:cNvPicPr/>
          <p:nvPr/>
        </p:nvPicPr>
        <p:blipFill>
          <a:blip r:embed="rId1"/>
          <a:srcRect l="1664" t="2538" r="2429" b="4236"/>
          <a:stretch/>
        </p:blipFill>
        <p:spPr>
          <a:xfrm>
            <a:off x="609480" y="2422440"/>
            <a:ext cx="792504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Shifting American Economy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economic growth slowed in mid-197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share of world markets dec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heavy industry dec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 unions faded, public employee unions became more domin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technology prospered and big business divers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shifted from East and Midwest to Sunbe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New Environment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shocks made average consumers more environmentally consci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energy to oil sought, but each has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0: Superfund set up to clean up toxic w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 consumption and imports still up at end of 197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he Tempting of Richard Nixon 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of the most controversial Presidents in U.S.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success in domestic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ke important new ground in foreign re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gned under the cloud of Watergate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ivate Lives—Public Issu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American family gave way to more diverse living arrang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working women increased shar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y rights movement emer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Changing American Family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most 2-parent households, both parents work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3% of married coupes with children by 2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unmarried couples doubled in the 199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orce rate levels off at half of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riages ending in div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rate began to climb as baby boomers mat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Changing American Family:  New Family Structur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never marry or postpone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others worked outside the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rtion of single-parent households doub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without partners head 1/3 of impoverished famil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comprised 40% of the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Gains and Setbacks for Wome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movement of women into wor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throughs for wo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ders in industry, higher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appointed to Supreme Cou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male business ownership increased substanti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Rights Amend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vs. Phyllis Schlaf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falls 3 states short of pa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oe v. Wa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s reproductive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Voting on the Equal Rights Amendmen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8" name="Picture 4" descr="DIVI7233691"/>
          <p:cNvPicPr/>
          <p:nvPr/>
        </p:nvPicPr>
        <p:blipFill>
          <a:blip r:embed="rId1"/>
          <a:stretch/>
        </p:blipFill>
        <p:spPr>
          <a:xfrm>
            <a:off x="1828800" y="2133720"/>
            <a:ext cx="52196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Gay Liberation Movemen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9: Stonewall Riot sparked gay rights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y Liberation Front and Gay Activist Alliance mai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: Democrats included gay rights pl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0s: AIDS puts gay rights movement on def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7: 600,000 marched on Washing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: “Don’t Ask, Don’t Tell” policy a set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6: Defense of Marriage Act prohibited state recognition of same-sex u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0: Vermont legalized same-sex “civil unio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82" name="Picture 4" descr="DIVI7233692"/>
          <p:cNvPicPr/>
          <p:nvPr/>
        </p:nvPicPr>
        <p:blipFill>
          <a:blip r:embed="rId1"/>
          <a:stretch/>
        </p:blipFill>
        <p:spPr>
          <a:xfrm>
            <a:off x="609480" y="457200"/>
            <a:ext cx="784872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8380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AIDS Epidem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80880" y="2147760"/>
            <a:ext cx="876312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1: AIDS first detect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arent confinement to homosexual men results in   early public inac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read to drug users, recipients of blood transfusions prompts pa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gan Administration’s respon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d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funding for education, pre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87: Appointment of AIDS commission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AIDS Epidemic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dy rise in infection until by 1996 500,000 in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6: AIDS death rate began dro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fer sexual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0 drops in death and infection rate dropped o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devastating some third world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Politics and Diplomacy after Watergat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hallenged prerogatives of the Presid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e action to solve America’s problem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1" name="Content Placeholder 3" descr="richard-nixon6.jpg"/>
          <p:cNvPicPr/>
          <p:nvPr/>
        </p:nvPicPr>
        <p:blipFill>
          <a:blip r:embed="rId1"/>
          <a:srcRect l="-20766" t="0" r="-20766" b="0"/>
          <a:stretch/>
        </p:blipFill>
        <p:spPr>
          <a:xfrm>
            <a:off x="685800" y="19810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Ford Administr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don of Nixon unpop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ic Congress ali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losure of illegal CIA activities under Kennedy and John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ed Democratic bills protecting the environment and civil righ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d vetoed 39 bills, proving himself to be more conservative than Nix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arter and American Malaise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played on public distrust of professional politicians, gets elected portraying himself as an outs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er had no discernible political philoso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sider status hampers effect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9: Carter blamed American people for "national malaise" and fires some cabinet me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lection of 1976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0" name="Picture 4" descr="DIVI7233TB3101"/>
          <p:cNvPicPr/>
          <p:nvPr/>
        </p:nvPicPr>
        <p:blipFill>
          <a:blip r:embed="rId1"/>
          <a:srcRect l="0" t="15725" r="0" b="0"/>
          <a:stretch/>
        </p:blipFill>
        <p:spPr>
          <a:xfrm>
            <a:off x="457200" y="2819520"/>
            <a:ext cx="82296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oubles Abroad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79: U.S. refused aid to Nicaraguan government against Sandinist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er assisted El Salvador against Marxist reb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David Accords 1978: Peace between Israel and Eg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anian Revolution of 197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homeini led Islamic fundamentalist r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anian militants seized U.S. embassy and held 53 hostages after U.S. allowed deposed Shah into U.S. for medical trea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ouble Spots in Central America and the Caribbea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04" name="Picture 4" descr="DIVI"/>
          <p:cNvPicPr/>
          <p:nvPr/>
        </p:nvPicPr>
        <p:blipFill>
          <a:blip r:embed="rId1"/>
          <a:srcRect l="1083" t="2464" r="1849" b="2464"/>
          <a:stretch/>
        </p:blipFill>
        <p:spPr>
          <a:xfrm>
            <a:off x="1066680" y="2290680"/>
            <a:ext cx="73152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ollapse of Détente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ter’s emphasis on human rights seen as repudiation of Déte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ter’s National Security Advisor Brzezinski opposed to Déten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9: SALT II signed, but not ra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9: Full diplomatic relations with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9: Soviets invaded Afghanis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ter Doctrine armed opposition if Soviets moved closer to Persian Gu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.S. boycotted 1980 Olympic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Reagan Revolu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moil of the 1960s and economic problems of 1970s made conservative turn inevi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gate bought Democrats more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was the attractive candidate Republicans needed to assure decisive victo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lection of 1980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ter’s trou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inflation and high unem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tage crisis and Soviet invasion of Afghanistan made Carter look naïve and helpl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: “Are you better off now than you were 4 years ago?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won in a landsl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n all Southern states but Georg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e inroads into traditional New Deal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ublicans retook the Sen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7233704"/>
          <p:cNvPicPr/>
          <p:nvPr/>
        </p:nvPicPr>
        <p:blipFill>
          <a:blip r:embed="rId1"/>
          <a:stretch/>
        </p:blipFill>
        <p:spPr>
          <a:xfrm>
            <a:off x="2257560" y="533520"/>
            <a:ext cx="472572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utting Taxes and Spending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blamed country’s economic problems on high government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y-side economics—cut taxes to encourage productive private inv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cut over three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spending by more than $40 b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rvices included in cu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es cut by 25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agmatic Liber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Great Society more efficient, not overthrow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 Federal programs and responsi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irmative Ac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al Safety and Health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Protection A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 of living increases for Social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Unleashing the Private Sector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regulation: Many environmental regulations re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pan agreed to voluntary export limits on automob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fired striking air traffic control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 changes cut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te appointment of Sandra Day O’Connor, Reagan appointed only 3 other women and 1 African American male out of 73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Reagan and the World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determined to restore America's international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ed world supremacy over Sovi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hallenging the "Evil Empire"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military expansion under Rea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:  Soviet Union the "focus of evil in the modern world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escalates arms 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ment of cruise missiles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Strategic Defense Initi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onfrontation in Central America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moderate, middle-class regimes led U.S. to support oppressive right-wing dictator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put U.S. at odds with reform movements, whom U.S. saw as linked to Commu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reversed Carter support for Sandinistas, driving them to Sovie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began covert support for Contras after Congress rejects over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rouble Spots in Central America and the Caribbean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3" name="Picture 4" descr="DIVI7233713"/>
          <p:cNvPicPr/>
          <p:nvPr/>
        </p:nvPicPr>
        <p:blipFill>
          <a:blip r:embed="rId1"/>
          <a:stretch/>
        </p:blipFill>
        <p:spPr>
          <a:xfrm>
            <a:off x="762120" y="2424240"/>
            <a:ext cx="76197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More trouble in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Middle Eas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2: With U.S. encouragement, Israel  invaded Leba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, France send troops to maintain or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O evacuated to Tunis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4: 200 U.S. Marines killed in terrorist bomb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evacuation of Leban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Trouble Spots in the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Middle Eas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7" name="Picture 4" descr="DIVI7233712"/>
          <p:cNvPicPr/>
          <p:nvPr/>
        </p:nvPicPr>
        <p:blipFill>
          <a:blip r:embed="rId1"/>
          <a:stretch/>
        </p:blipFill>
        <p:spPr>
          <a:xfrm>
            <a:off x="533520" y="2362320"/>
            <a:ext cx="830556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Election of 1984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229" name="Picture 4" descr="DIVI7233TB3201"/>
          <p:cNvPicPr/>
          <p:nvPr/>
        </p:nvPicPr>
        <p:blipFill>
          <a:blip r:embed="rId1"/>
          <a:srcRect l="0" t="15847" r="0" b="0"/>
          <a:stretch/>
        </p:blipFill>
        <p:spPr>
          <a:xfrm>
            <a:off x="609480" y="2422440"/>
            <a:ext cx="84582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rading Arms for Hostag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anian-backed Lebanese militants seized 6 Americans host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weapons sold to Iran for influence in freeing American host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iver North’s plan: Iran-Contra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t from Iran arms sales to Con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clearly violates Boland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 escaped impeachment, North and others were j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Reagan the Peacemake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5: Mikhail Gorbachev assumed power in Rus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85–1988: Reagan-Gorbachev summ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7: Destroyed intermediate range miss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88: Afghanistan evacu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ign policy triumphs with Soviets, offsets Iran-Contra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agmatic Liber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Federalis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fts public perception of responsibility for desegregation to courts and away from Whit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hallenging the New De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an’s Presidency saw breakup of Democratic New Deal Coal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Deal premises challenged by Reagan view that the private sector rather than government should be source of remedy for America’s 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centerpieces of welfare state left i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government conservatism was wave of the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étente: Approach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more interested in foreig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Kissinger was his primary advi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 and Kissinger had practical approach to diplom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 War traditional Great Power struggle, not ideological war with Commu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tente—relaxation of tensions with Sovi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Détente: tactics and action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xon’s 1972 visit to China and the “China Car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ballistic Missile Treaty (AB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each side to 200 AB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egic Arms Limitation Treaty (SAL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ze number of offensive ballistic missiles for 5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Ending the Vietnam Wa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xon’s p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dual reduction of American troops and their replacement with trained South Vietnamese fo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nsify American bomb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 line at the peace ta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0: Invasion of Cambodia and Kent State shoo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ce signed in 1973: U.S. withdrew, North Vietnamese rem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75: North Vietnamese conquered South Vietn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Watergate Scandal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umbers” Nixon’s private spies, arrested in 1972 breaking into Democratic Party Headquarters at Watergate Ho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1973: Senate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ing Senate hearings on cover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 House tapes discover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 1974: The final ph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reme Court ruled Nixon must turn over ta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se Judiciary committee recommended impeach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ust 9, 1974: Resignation of Nix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1:23:48Z</dcterms:created>
  <dc:creator>CMU</dc:creator>
  <dc:description/>
  <cp:keywords/>
  <dc:language>en-US</dc:language>
  <cp:lastModifiedBy>Matthew Myers</cp:lastModifiedBy>
  <cp:lastPrinted>2008-10-31T13:01:12Z</cp:lastPrinted>
  <dcterms:modified xsi:type="dcterms:W3CDTF">2012-04-17T12:29:18Z</dcterms:modified>
  <cp:revision>37</cp:revision>
  <dc:subject/>
  <dc:title>CHAPTER 32 A CRISIS IN CONFIDENCE, 1969-1980</dc:title>
</cp:coreProperties>
</file>